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7A8-5ADC-4F68-B530-FA573525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990-6C5D-4F13-9BB5-DA8505D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B02-A79D-460E-B6EE-F917B861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349-1864-41ED-AA38-D56BB2AD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E6F-B3D3-42D5-87E4-4053EAD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839-22ED-47C8-AE7E-FCB8A4CF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F3F-7435-4087-9FC5-239BEA1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4EC-94A9-4F8D-A2E4-0F5AE66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E10-212C-4D14-9DE6-48563D2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F9E-5F4B-40F8-9600-A9A21625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45C-BD6C-480A-956F-6E8EECE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315-2F80-433F-AFA9-47F580AD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FB9-C35F-40B3-A4B1-A0628F6B7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6.gif"/><Relationship Id="rId12" Type="http://schemas.openxmlformats.org/officeDocument/2006/relationships/image" Target="../media/image4.gif"/><Relationship Id="rId13" Type="http://schemas.openxmlformats.org/officeDocument/2006/relationships/image" Target="../media/image2.gif"/><Relationship Id="rId14" Type="http://schemas.openxmlformats.org/officeDocument/2006/relationships/image" Target="../media/image11.gif"/><Relationship Id="rId15" Type="http://schemas.openxmlformats.org/officeDocument/2006/relationships/image" Target="../media/image10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11.gif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rwflags.com/fotw/images/a/au_eka.gif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crwflags.com/fotw/images/a/au_eka.gif" TargetMode="External"/><Relationship Id="rId4" Type="http://schemas.openxmlformats.org/officeDocument/2006/relationships/image" Target="../media/image12.png"/><Relationship Id="rId5" Type="http://schemas.openxmlformats.org/officeDocument/2006/relationships/hyperlink" Target="http://www.crwflags.com/fotw/images/a/au_eka.gif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crwflags.com/fotw/images/a/au_eka.gif" TargetMode="Externa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6.gif"/><Relationship Id="rId9" Type="http://schemas.openxmlformats.org/officeDocument/2006/relationships/image" Target="../media/image17.gif"/><Relationship Id="rId10" Type="http://schemas.openxmlformats.org/officeDocument/2006/relationships/image" Target="../media/image7.gif"/><Relationship Id="rId11" Type="http://schemas.openxmlformats.org/officeDocument/2006/relationships/image" Target="../media/image13.gif"/><Relationship Id="rId12" Type="http://schemas.openxmlformats.org/officeDocument/2006/relationships/image" Target="../media/image18.gif"/><Relationship Id="rId13" Type="http://schemas.openxmlformats.org/officeDocument/2006/relationships/image" Target="../media/image5.gif"/><Relationship Id="rId14" Type="http://schemas.openxmlformats.org/officeDocument/2006/relationships/image" Target="../media/image19.gif"/><Relationship Id="rId15" Type="http://schemas.openxmlformats.org/officeDocument/2006/relationships/image" Target="../media/image8.gif"/><Relationship Id="rId16" Type="http://schemas.openxmlformats.org/officeDocument/2006/relationships/image" Target="../media/image9.gif"/><Relationship Id="rId17" Type="http://schemas.openxmlformats.org/officeDocument/2006/relationships/image" Target="../media/image4.gif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3399ff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229360"/>
            <a:ext cx="714240" cy="952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268360" y="148428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59280" y="148428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780000" y="148428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84328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56400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2764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21964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084720" y="242100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6877080" y="242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7667640" y="242100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2916360" y="3645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780000" y="3645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2268360" y="5229360"/>
            <a:ext cx="809640" cy="952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3924360" y="522936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3059280" y="5229360"/>
            <a:ext cx="87624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4788000" y="5229360"/>
            <a:ext cx="876240" cy="9522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Bushrang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shrangers are convicts that have esca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to steal when there are a few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ride on horses to easily atta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d Kelly was a famous bushra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u_eka" descr="[Eureka Flag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62" name="au_eka" descr="[Eureka Flag]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749920"/>
            <a:ext cx="2484360" cy="1108080"/>
          </a:xfrm>
          <a:prstGeom prst="rect">
            <a:avLst/>
          </a:prstGeom>
          <a:ln w="0">
            <a:noFill/>
          </a:ln>
        </p:spPr>
      </p:pic>
      <p:pic>
        <p:nvPicPr>
          <p:cNvPr id="63" name="au_eka" descr="[Eureka Flag]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5749920"/>
            <a:ext cx="2411280" cy="1108080"/>
          </a:xfrm>
          <a:prstGeom prst="rect">
            <a:avLst/>
          </a:prstGeom>
          <a:ln w="0">
            <a:noFill/>
          </a:ln>
        </p:spPr>
      </p:pic>
      <p:pic>
        <p:nvPicPr>
          <p:cNvPr id="64" name="au_eka" descr="[Eureka Flag]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0"/>
            <a:ext cx="2411280" cy="110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 rot="10800000">
            <a:off x="2987640" y="2996280"/>
            <a:ext cx="71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hranger                 ques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99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id the bushrangers do on the gold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id they dres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did they exis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did Ned Kelly d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ushrangers be also a good per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y good at tricking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can’t they dig for their own g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do they only steal gold from one or two people at a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00360" y="2492280"/>
            <a:ext cx="691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hr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_eka" descr="[Eureka Flag]"/>
          <p:cNvPicPr/>
          <p:nvPr/>
        </p:nvPicPr>
        <p:blipFill>
          <a:blip r:embed="rId1"/>
          <a:stretch/>
        </p:blipFill>
        <p:spPr>
          <a:xfrm>
            <a:off x="0" y="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0" name="au_eka" descr="[Eureka Flag]"/>
          <p:cNvPicPr/>
          <p:nvPr/>
        </p:nvPicPr>
        <p:blipFill>
          <a:blip r:embed="rId2"/>
          <a:stretch/>
        </p:blipFill>
        <p:spPr>
          <a:xfrm>
            <a:off x="0" y="574992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1" name="au_eka" descr="[Eureka Flag]"/>
          <p:cNvPicPr/>
          <p:nvPr/>
        </p:nvPicPr>
        <p:blipFill>
          <a:blip r:embed="rId3"/>
          <a:stretch/>
        </p:blipFill>
        <p:spPr>
          <a:xfrm>
            <a:off x="6767640" y="5749920"/>
            <a:ext cx="237636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au_eka" descr="[Eureka Flag]"/>
          <p:cNvPicPr/>
          <p:nvPr/>
        </p:nvPicPr>
        <p:blipFill>
          <a:blip r:embed="rId4"/>
          <a:stretch/>
        </p:blipFill>
        <p:spPr>
          <a:xfrm>
            <a:off x="6767640" y="0"/>
            <a:ext cx="2376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shrangers robbed gold from people like miners and dig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ore boots, coats, pants and a hel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existed in the 1840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d Kelly died in 194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!!! They can only be a bad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 sometimes they mess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don’t want to because it is a lot of hard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rather steal off one or 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indefinite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indefinite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460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41964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4284720" y="98100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411280" y="256536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3203640" y="256536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3995640" y="256536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133200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19564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3059280" y="43657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708360" y="4365720"/>
            <a:ext cx="80964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42764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5292720" y="4365720"/>
            <a:ext cx="57168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5796000" y="4365720"/>
            <a:ext cx="87624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6588000" y="4365720"/>
            <a:ext cx="87660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5148360" y="981000"/>
            <a:ext cx="71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Biography!~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her’s an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48:59Z</dcterms:created>
  <dc:creator>jenny.n</dc:creator>
  <dc:description/>
  <dc:language>en-US</dc:language>
  <cp:lastModifiedBy>jenny.n</cp:lastModifiedBy>
  <dcterms:modified xsi:type="dcterms:W3CDTF">2010-09-13T02:28:51Z</dcterms:modified>
  <cp:revision>9</cp:revision>
  <dc:subject/>
  <dc:title>Bushrangers</dc:title>
</cp:coreProperties>
</file>